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E8B-0400-4C34-A976-3F3444B5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0C9-AC97-442B-8237-4D17CB26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23B-7831-4ECD-A6DA-F5DDE72B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7BFE-1E80-4999-9DCC-0AF17AEC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8DDD-24A0-4F09-9075-7460C7F6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DDCD-CA0E-4A71-B632-22BC9FF7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0B20-4307-475E-B9ED-60BF58E1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65F2-1E44-4D66-A7EE-CE4467E6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CE04-FF85-4E53-979E-1A116B11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97BD-D09D-4614-96F2-66F320E4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3E4F-DABD-4863-BC5C-AED844D0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A4A-1C8E-4FE5-A8DB-6635244D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6EB2-602E-437E-B297-91A059CD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2628-EB85-4726-90A5-8FBF2253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18E9-9C9B-4CA1-B8C6-D509E9DE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9E0A-4E5A-4E1F-B9D6-328124CD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0670-1C16-4934-8D39-04CA371C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75E-20DE-40AE-86F3-DD320806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50B0-595A-4A15-905F-CD116749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F83-2601-44E4-B6C6-FE08EEAA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FE8-7C47-4720-9C7F-73D3E074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BF6-E47C-40DB-909A-C1D54B3E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4FA-F24A-4C4F-9F7F-48B3EF40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70B-328B-4991-BF5D-D00B88E4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8AB6-61B9-45EB-A140-0C014788F2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8385-3104-4A93-B9F2-FABB969191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2.wmf"/><Relationship Id="rId9" Type="http://schemas.openxmlformats.org/officeDocument/2006/relationships/image" Target="../media/image22.wmf"/><Relationship Id="rId10" Type="http://schemas.openxmlformats.org/officeDocument/2006/relationships/image" Target="../media/image22.wmf"/><Relationship Id="rId11" Type="http://schemas.openxmlformats.org/officeDocument/2006/relationships/image" Target="../media/image22.wmf"/><Relationship Id="rId12" Type="http://schemas.openxmlformats.org/officeDocument/2006/relationships/image" Target="../media/image22.wmf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856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Reti di Calcolatori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4581360"/>
            <a:ext cx="360360" cy="360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la tecnologia di comunicazi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ti punto a pu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ù connessioni individuali tra coppie di calcola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unicazione tra due calcola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siste un canale di trasmissione diretto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lo si usa per la comunicazion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on esiste un canale di comunicazione diretto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la comunicazione avviene passando attraverso calcolatori intermedi                               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la tecnologia di comunicazi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In general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e reti geograficamente localizzate tendono ad essere broadc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e reti geograficamente molto estese tendono ad essere punto a pu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304920"/>
            <a:ext cx="7777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la loro estensi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Rete locale (LAN - Local Area Network):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Di limitata estensio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due o più computer in un area non più grande di un edifici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computer di un laboratorio, gruppo di lavoro, ufficio, ditt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Rete metropolitana (MAN - Metropolitan Area Network):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dispositivi collocati nella stessa area urba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computer di una singola organizzazione nella stessa area urbana (es.: banca con filiali cittadine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la loro estensi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6360" y="1773360"/>
            <a:ext cx="849636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Rete geografica (Wide Area Network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dispositivi diffusi in un’ampia area geografica (nazione, continent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Trasmissione dati: attraverso messagg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Rete di ret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più reti differenti e singoli calcolatori mediante opportuni elementi di interfacci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Può avere estensione mondiale (es.: Interne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br>
              <a:rPr sz="38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topologico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a: quanti e quali cavi utilizzare e come disporli per connettere i nod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attori di scelt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Economic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umero e lunghezza dei cav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Velocità di comunic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umero di nodi intermed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Affidabil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olleranza rispetto ai guast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br>
              <a:rPr sz="38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topologico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636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inea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el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el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nto-pu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173240" y="2368440"/>
            <a:ext cx="7059600" cy="1086120"/>
            <a:chOff x="1173240" y="2368440"/>
            <a:chExt cx="7059600" cy="1086120"/>
          </a:xfrm>
        </p:grpSpPr>
        <p:sp>
          <p:nvSpPr>
            <p:cNvPr id="125" name=""/>
            <p:cNvSpPr/>
            <p:nvPr/>
          </p:nvSpPr>
          <p:spPr>
            <a:xfrm>
              <a:off x="1173240" y="3454560"/>
              <a:ext cx="705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587600" y="2368440"/>
              <a:ext cx="928440" cy="1086120"/>
              <a:chOff x="1587600" y="2368440"/>
              <a:chExt cx="928440" cy="1086120"/>
            </a:xfrm>
          </p:grpSpPr>
          <p:sp>
            <p:nvSpPr>
              <p:cNvPr id="127" name=""/>
              <p:cNvSpPr/>
              <p:nvPr/>
            </p:nvSpPr>
            <p:spPr>
              <a:xfrm>
                <a:off x="1587600" y="236844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52720" y="2881440"/>
                <a:ext cx="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400560" y="2368440"/>
              <a:ext cx="928440" cy="1086120"/>
              <a:chOff x="3400560" y="2368440"/>
              <a:chExt cx="928440" cy="1086120"/>
            </a:xfrm>
          </p:grpSpPr>
          <p:sp>
            <p:nvSpPr>
              <p:cNvPr id="130" name=""/>
              <p:cNvSpPr/>
              <p:nvPr/>
            </p:nvSpPr>
            <p:spPr>
              <a:xfrm>
                <a:off x="3400560" y="236844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65680" y="2881440"/>
                <a:ext cx="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165640" y="2368440"/>
              <a:ext cx="928440" cy="1086120"/>
              <a:chOff x="5165640" y="2368440"/>
              <a:chExt cx="928440" cy="1086120"/>
            </a:xfrm>
          </p:grpSpPr>
          <p:sp>
            <p:nvSpPr>
              <p:cNvPr id="133" name=""/>
              <p:cNvSpPr/>
              <p:nvPr/>
            </p:nvSpPr>
            <p:spPr>
              <a:xfrm>
                <a:off x="5165640" y="236844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630760" y="2881440"/>
                <a:ext cx="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840360" y="2368440"/>
              <a:ext cx="928440" cy="1086120"/>
              <a:chOff x="6840360" y="2368440"/>
              <a:chExt cx="928440" cy="1086120"/>
            </a:xfrm>
          </p:grpSpPr>
          <p:sp>
            <p:nvSpPr>
              <p:cNvPr id="136" name=""/>
              <p:cNvSpPr/>
              <p:nvPr/>
            </p:nvSpPr>
            <p:spPr>
              <a:xfrm>
                <a:off x="6840360" y="236844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305480" y="2881440"/>
                <a:ext cx="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080" y="304920"/>
            <a:ext cx="8820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lineare (a bus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1080" y="3716280"/>
            <a:ext cx="9144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Fu la prima ad essere utilizzata nel progetto di reti local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Trasmissioni broadcast che condividono un unico canale di trasmissio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Richiede un mezzo trasmissivo intrinsecamente bidireziona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E’ necessario risolvere conflitti tra le risorse che vogliono accedere contemporaneamente alla risors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Topologia lineare (a bus)</a:t>
            </a: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 Ethern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Ethernet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è il tipo di rete locale più diff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Qualsiasi computer di qualsiasi tipo prevede la possibilità di usare una </a:t>
            </a:r>
            <a:r>
              <a:rPr b="1" lang="it-IT" sz="2200" spc="-1" strike="noStrike">
                <a:solidFill>
                  <a:srgbClr val="336699"/>
                </a:solidFill>
                <a:latin typeface="Verdana"/>
              </a:rPr>
              <a:t>scheda Ethernet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per connettersi alla rete loca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Metodo di access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Quando un computer vuole comunicare invia il segnale sul cavo di colleg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e si verifica un conflitto (due computer hanno tentato di comunicare contemporaneamente) i due computer si fermano e aspettano per un tempo T casuale, poi riprovan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Velocità di trasmissione: 100 Megabit/se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lineare (a bu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771200"/>
            <a:ext cx="8964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Vantagg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emplicità 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facile gestione e manutenzi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Flessibilità 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facile connessione di stazioni alla re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Bassi cost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Affidabilit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vantagg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Tutte le stazioni dipendono da un solo mezzo trasmissivo condiviso: le prestazioni possono divenire un fattore critico nel momento di traffico elevato: non è garantita la consegna del messaggio entro un certo intervallo di temp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752480" y="1773360"/>
            <a:ext cx="4522680" cy="1368000"/>
            <a:chOff x="1752480" y="1773360"/>
            <a:chExt cx="4522680" cy="1368000"/>
          </a:xfrm>
        </p:grpSpPr>
        <p:sp>
          <p:nvSpPr>
            <p:cNvPr id="145" name=""/>
            <p:cNvSpPr/>
            <p:nvPr/>
          </p:nvSpPr>
          <p:spPr>
            <a:xfrm>
              <a:off x="2005560" y="1848600"/>
              <a:ext cx="4269600" cy="1292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7120" y="1965960"/>
              <a:ext cx="788040" cy="2739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15000" y="2867400"/>
              <a:ext cx="787680" cy="2739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2546640"/>
              <a:ext cx="788040" cy="2739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80080" y="1773360"/>
              <a:ext cx="787680" cy="2739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ad ane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3384360"/>
            <a:ext cx="885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nessione circolare punto-a-punto tra tutte le stazioni colleg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’informazione transita in una direzione e viene ricevuta a turno da ogni stazione, che verifica se essa è destinataria del messaggio; in caso negativo la stazione rigenera il segnale e lo trasmette alla stazione success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Evoluzione dei sistemi informati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6160" y="2114640"/>
          <a:ext cx="7042320" cy="35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2114640"/>
                    <a:ext cx="704232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ad ane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7280" y="2349000"/>
            <a:ext cx="885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tecnica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token-ring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viene usata per la comunicazione tra gli elaborat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 token (un gruppo di byte) viene continuamente passato da un computer all’al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 computer può trasmettere sulla rete solo quando e’ in possesso del tok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ad ane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7280" y="1628280"/>
            <a:ext cx="885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ntagg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98840" indent="-383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o ridot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vantagg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98840" indent="-383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mitata flessibilità: l’aggiunta di una nuova stazione comporta l’apertura dell’anell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spensione attività per il tempo necessario all’inserimen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8840" indent="-383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fidabilità della rete: dipende dall’affidabilità di tutte le stazioni collegate; se una di esse ha un malfunzionamento l’anello si interromp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-360"/>
            <a:ext cx="687708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a stell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4797000"/>
            <a:ext cx="880092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connessioni fanno capo ad un unico nodo centrale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HU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dispositivo hardware specializzato che smista le comunicazioni dei compu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ente un controllo centralizzato delle comunica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581120" y="2008080"/>
            <a:ext cx="6064200" cy="2241720"/>
            <a:chOff x="1581120" y="2008080"/>
            <a:chExt cx="6064200" cy="2241720"/>
          </a:xfrm>
        </p:grpSpPr>
        <p:grpSp>
          <p:nvGrpSpPr>
            <p:cNvPr id="159" name=""/>
            <p:cNvGrpSpPr/>
            <p:nvPr/>
          </p:nvGrpSpPr>
          <p:grpSpPr>
            <a:xfrm>
              <a:off x="1581120" y="2008080"/>
              <a:ext cx="6064200" cy="2241720"/>
              <a:chOff x="1581120" y="2008080"/>
              <a:chExt cx="6064200" cy="2241720"/>
            </a:xfrm>
          </p:grpSpPr>
          <p:sp>
            <p:nvSpPr>
              <p:cNvPr id="160" name=""/>
              <p:cNvSpPr/>
              <p:nvPr/>
            </p:nvSpPr>
            <p:spPr>
              <a:xfrm>
                <a:off x="3932280" y="3454560"/>
                <a:ext cx="1173240" cy="79524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94320" y="2008080"/>
                <a:ext cx="92880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09920" y="200808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716880" y="373680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81120" y="3736800"/>
                <a:ext cx="92880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38360" y="2521080"/>
                <a:ext cx="493920" cy="9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5105520" y="2521080"/>
                <a:ext cx="388800" cy="9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09920" y="3967200"/>
                <a:ext cx="142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105520" y="3967200"/>
                <a:ext cx="161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932280" y="3525840"/>
              <a:ext cx="116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-360"/>
            <a:ext cx="687708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a stell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4582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84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4240" indent="-84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ntagg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stazioni elevate, grazie alle connessioni punto a punto dedic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cilità di controllo centralizzato del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mplicità del protocollo di comunicazi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84240" indent="-84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vantagg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sibilità di sovraccarico in caso di traffico elevato, con possibilità di blocco delle comunicazio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pendenza dall’affidabilità del server, dato che un suo guasto blocca l’intera re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195640" y="1755720"/>
            <a:ext cx="4176360" cy="2249280"/>
            <a:chOff x="2195640" y="1755720"/>
            <a:chExt cx="4176360" cy="2249280"/>
          </a:xfrm>
        </p:grpSpPr>
        <p:sp>
          <p:nvSpPr>
            <p:cNvPr id="173" name=""/>
            <p:cNvSpPr/>
            <p:nvPr/>
          </p:nvSpPr>
          <p:spPr>
            <a:xfrm>
              <a:off x="2195640" y="1755720"/>
              <a:ext cx="970920" cy="71712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1440" y="1755720"/>
              <a:ext cx="970560" cy="71712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3288240"/>
              <a:ext cx="970920" cy="7167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01440" y="3288240"/>
              <a:ext cx="970560" cy="7167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22600" y="2472840"/>
              <a:ext cx="1080" cy="81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66560" y="2062800"/>
              <a:ext cx="2234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66560" y="3653280"/>
              <a:ext cx="2234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84560" y="2472840"/>
              <a:ext cx="12960" cy="81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6560" y="2472840"/>
              <a:ext cx="2234880" cy="81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166560" y="2472480"/>
              <a:ext cx="2234880" cy="81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punto a pu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4320720"/>
            <a:ext cx="874872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tima tolleranza ai guasti ma altissimi costi per i collegament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zabile solo per reti con pochissimi nod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476280"/>
            <a:ext cx="687708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mis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508120" y="2419200"/>
            <a:ext cx="1086120" cy="3578400"/>
            <a:chOff x="2508120" y="2419200"/>
            <a:chExt cx="1086120" cy="3578400"/>
          </a:xfrm>
        </p:grpSpPr>
        <p:sp>
          <p:nvSpPr>
            <p:cNvPr id="187" name=""/>
            <p:cNvSpPr/>
            <p:nvPr/>
          </p:nvSpPr>
          <p:spPr>
            <a:xfrm flipV="1">
              <a:off x="3594240" y="2419200"/>
              <a:ext cx="0" cy="357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508120" y="5317200"/>
              <a:ext cx="1086120" cy="470520"/>
              <a:chOff x="2508120" y="5317200"/>
              <a:chExt cx="1086120" cy="470520"/>
            </a:xfrm>
          </p:grpSpPr>
          <p:sp>
            <p:nvSpPr>
              <p:cNvPr id="189" name=""/>
              <p:cNvSpPr/>
              <p:nvPr/>
            </p:nvSpPr>
            <p:spPr>
              <a:xfrm rot="16200000">
                <a:off x="2529360" y="5295960"/>
                <a:ext cx="47052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021120" y="5551920"/>
                <a:ext cx="5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508120" y="4398120"/>
              <a:ext cx="1086120" cy="470520"/>
              <a:chOff x="2508120" y="4398120"/>
              <a:chExt cx="1086120" cy="470520"/>
            </a:xfrm>
          </p:grpSpPr>
          <p:sp>
            <p:nvSpPr>
              <p:cNvPr id="192" name=""/>
              <p:cNvSpPr/>
              <p:nvPr/>
            </p:nvSpPr>
            <p:spPr>
              <a:xfrm rot="16200000">
                <a:off x="2529360" y="4376880"/>
                <a:ext cx="47052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021120" y="4632840"/>
                <a:ext cx="5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2508120" y="3503520"/>
              <a:ext cx="1086120" cy="470520"/>
              <a:chOff x="2508120" y="3503520"/>
              <a:chExt cx="1086120" cy="470520"/>
            </a:xfrm>
          </p:grpSpPr>
          <p:sp>
            <p:nvSpPr>
              <p:cNvPr id="195" name=""/>
              <p:cNvSpPr/>
              <p:nvPr/>
            </p:nvSpPr>
            <p:spPr>
              <a:xfrm rot="16200000">
                <a:off x="2529360" y="3482280"/>
                <a:ext cx="47052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21120" y="3738240"/>
                <a:ext cx="5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2508120" y="2654640"/>
              <a:ext cx="1086120" cy="470520"/>
              <a:chOff x="2508120" y="2654640"/>
              <a:chExt cx="1086120" cy="470520"/>
            </a:xfrm>
          </p:grpSpPr>
          <p:sp>
            <p:nvSpPr>
              <p:cNvPr id="198" name=""/>
              <p:cNvSpPr/>
              <p:nvPr/>
            </p:nvSpPr>
            <p:spPr>
              <a:xfrm rot="16200000">
                <a:off x="2529360" y="2633400"/>
                <a:ext cx="47052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021120" y="2889360"/>
                <a:ext cx="5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5694840" y="2246400"/>
            <a:ext cx="1728360" cy="3516120"/>
            <a:chOff x="5694840" y="2246400"/>
            <a:chExt cx="1728360" cy="3516120"/>
          </a:xfrm>
        </p:grpSpPr>
        <p:grpSp>
          <p:nvGrpSpPr>
            <p:cNvPr id="201" name=""/>
            <p:cNvGrpSpPr/>
            <p:nvPr/>
          </p:nvGrpSpPr>
          <p:grpSpPr>
            <a:xfrm>
              <a:off x="5694840" y="2246400"/>
              <a:ext cx="1728360" cy="3516120"/>
              <a:chOff x="5694840" y="2246400"/>
              <a:chExt cx="1728360" cy="3516120"/>
            </a:xfrm>
          </p:grpSpPr>
          <p:sp>
            <p:nvSpPr>
              <p:cNvPr id="202" name=""/>
              <p:cNvSpPr/>
              <p:nvPr/>
            </p:nvSpPr>
            <p:spPr>
              <a:xfrm rot="5400000">
                <a:off x="5661360" y="3642840"/>
                <a:ext cx="680040" cy="61308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5400000">
                <a:off x="6956280" y="4586400"/>
                <a:ext cx="538200" cy="39528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5400000">
                <a:off x="6956280" y="2855880"/>
                <a:ext cx="538200" cy="39528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5400000">
                <a:off x="5623200" y="5295600"/>
                <a:ext cx="538200" cy="39528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5400000">
                <a:off x="5623200" y="2317680"/>
                <a:ext cx="538200" cy="39528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308280" y="3323160"/>
                <a:ext cx="719640" cy="2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>
                <a:off x="6308280" y="4289760"/>
                <a:ext cx="7196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912640" y="2784600"/>
                <a:ext cx="0" cy="82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912640" y="4289760"/>
                <a:ext cx="0" cy="9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rot="5400000">
              <a:off x="5705280" y="3744000"/>
              <a:ext cx="6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V="1">
            <a:off x="3587760" y="3970440"/>
            <a:ext cx="2106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divisione di risor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una rete si vogliono condividere le risorse. In una LAN, ad esempio,  stampanti, dischi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S.O. deve permettere anche l’uso di quelle risorse che non sono fisicamente collegate al computer su cui si sta lavoran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S.O. dei computer in rete devono quindi dialogare fra loro per permettere la condivisione delle risor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4643280" y="260280"/>
          <a:ext cx="40323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60280"/>
                    <a:ext cx="40323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Scambio di </a:t>
            </a:r>
            <a:br>
              <a:rPr sz="3400"/>
            </a:b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informazion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0" y="3068640"/>
            <a:ext cx="9144000" cy="3789360"/>
            <a:chOff x="0" y="3068640"/>
            <a:chExt cx="9144000" cy="3789360"/>
          </a:xfrm>
        </p:grpSpPr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446040" y="3068640"/>
              <a:ext cx="3643200" cy="37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4"/>
            <a:stretch/>
          </p:blipFill>
          <p:spPr>
            <a:xfrm>
              <a:off x="5502240" y="3108240"/>
              <a:ext cx="364176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55640" y="6137280"/>
              <a:ext cx="475308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960" y="3164040"/>
              <a:ext cx="3306600" cy="66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72320" y="6135840"/>
              <a:ext cx="3122280" cy="69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3119400"/>
              <a:ext cx="4162320" cy="66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560" y="1628640"/>
            <a:ext cx="883908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ffinché due calcolatori possano scambiarsi dei dati sono necessa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insieme di rego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he regolano lo scambio di dat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canale fisic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i comunicazione tra i due calcolator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componente hardwa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ella comunicazi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softwa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er la comunicazi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Protocolli di comunic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560" y="1717200"/>
            <a:ext cx="87138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solo collegamento fisico non è sufficiente per permettere la comunicazione fra calcolato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lla comunicazione tra calcolatori, è necessaria la presenza di uno strato software che consenta lo scambio di dati sulla base di un 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protocol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n protocollo di comunicazione è un insieme di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regole e convenzion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che controllano lo scambio di informazioni in una comunic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41440" y="0"/>
            <a:ext cx="91440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tocolli di comunic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720" y="1557000"/>
            <a:ext cx="93963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protocolli stabiliscono regole di comunicazione (messaggi consentiti e loro formato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e velocità avviene l’invio di byt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 segnali indicano l’inizio e la fine di una trasmission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 tecniche si usano per verificare la correttezza dei messagg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e segnale indica la corretta rice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l messaggio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380360" y="2637000"/>
            <a:ext cx="1203120" cy="755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380360" y="3808440"/>
            <a:ext cx="1258920" cy="772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380360" y="5084640"/>
            <a:ext cx="14032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s’è una re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45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ieme di calcolatori autonomi tra loro collegati mediante una rete di comunicazio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li utenti sono in grado di interagire in modo esplicito con la rete (ed in alcuni casi sono tenuti a farl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 calcolatori connessi alla rete mantengono un certo grado di indipendenza: in caso di guasto o indisponibilità della rete ogni calcolatore continua a funzionare individualmen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Protocolli di comunic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5773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e nel caso della codifica dei dati occorre utilizzare degli 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standar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er problemi di compatibilità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emp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ello </a:t>
            </a: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 ISO/OSI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Open System Interconnecti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ello </a:t>
            </a: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TCP/I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standard de fact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ezzi di trasmiss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560" y="1604880"/>
            <a:ext cx="918036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er la comunicazione tra calcolatori si possono usare diversi canali fisici di trasmiss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66"/>
                </a:solidFill>
                <a:latin typeface="Verdana"/>
              </a:rPr>
              <a:t>Mezzi guida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Linee fisiche che portano il segnale fino al ricevito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Supportano la trasmissione di segnali elettrici oppure ottic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gnali elettrici: doppino telefonico o cavo coass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gnali ottici: fibre ottich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66"/>
                </a:solidFill>
                <a:latin typeface="Verdana"/>
              </a:rPr>
              <a:t>Mezzi non guidati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Irradiazione di segnali elettromagnetici nelle spazio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atellite, antenne, infraro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zzi guid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9280" y="1700280"/>
            <a:ext cx="8210520" cy="4392000"/>
            <a:chOff x="179280" y="1700280"/>
            <a:chExt cx="8210520" cy="4392000"/>
          </a:xfrm>
        </p:grpSpPr>
        <p:grpSp>
          <p:nvGrpSpPr>
            <p:cNvPr id="239" name=""/>
            <p:cNvGrpSpPr/>
            <p:nvPr/>
          </p:nvGrpSpPr>
          <p:grpSpPr>
            <a:xfrm>
              <a:off x="179280" y="1768680"/>
              <a:ext cx="7920000" cy="4323600"/>
              <a:chOff x="179280" y="1768680"/>
              <a:chExt cx="7920000" cy="4323600"/>
            </a:xfrm>
          </p:grpSpPr>
          <p:pic>
            <p:nvPicPr>
              <p:cNvPr id="2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4000" y="1842120"/>
                <a:ext cx="7775280" cy="417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611280" y="1768680"/>
                <a:ext cx="7057800" cy="920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39640" y="5525280"/>
                <a:ext cx="7058160" cy="49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79280" y="1770120"/>
                <a:ext cx="865440" cy="432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7524720" y="1700280"/>
              <a:ext cx="865080" cy="432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453440" y="467352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lamento vetroso di sil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24720" y="2781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li di 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3573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po centrale condu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zzi non guid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4560" y="1752480"/>
            <a:ext cx="88930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 segnali vengono trasmessi e ricevuti mediante anten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’antenna del trasmettitore irradia nell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zio onde elettromagnetiche ch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’antenna ricevente cap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trasmissione del segnal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ò essere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Verdana"/>
              </a:rPr>
              <a:t>direzional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Verdana"/>
              </a:rPr>
              <a:t>non direziona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877080" y="3573360"/>
            <a:ext cx="193824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sa influenza la trasmission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7138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La capacità del canale (chiamata anche larghezza di band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Quanti bit il canale trasmette nell’unità di temp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aggiore è la larghezza del canale, maggiore è l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velocità di trasmission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Il grado di attenuazione del segna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imita la distanza percorribile dal segnal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iversi supporti fisici hanno diverse caratteristiche di attenuazion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 ripetitori hanno il compito di amplificare e trasmettere il segnale per eliminare l’attenuazion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Le interferenze tra segnal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Nei mezzi guidati si può adottare una schermatura del cav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Nei mezzi non guidati il problema è più critic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Il numero dei ricevitor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unto-a-punto: pochi disturbi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ultipunto: ogni connessione introduce fenomeni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i attenuazione e distorsione della linea, riducendo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a velocità di trasmissione e le distanze copert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88240" y="2136600"/>
            <a:ext cx="200484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 1 1 0 0 1 0 1 0 0 1...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245960" cy="1749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8172360" y="5589720"/>
            <a:ext cx="717480" cy="696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028000" y="4724280"/>
            <a:ext cx="789120" cy="765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6588000" y="472428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6732720" y="558972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8388360" y="3141720"/>
            <a:ext cx="4636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9080" y="304920"/>
            <a:ext cx="72356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spetti della trasmissione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 segnal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2185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divisione del cana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rezione della trasmiss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asmissione seriale o paralle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asmissione sincrona/asincro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asmissione digitale/analog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9440" y="304920"/>
            <a:ext cx="7883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ndivisione del canale</a:t>
            </a:r>
            <a:br>
              <a:rPr sz="3800"/>
            </a:b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(multiplexing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Verdana"/>
              </a:rPr>
              <a:t>Obiettivo: 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utilizzare un canale fisico come più canali logici, ognuno dei quali dedicato ad una sorgente che trasmette lungo il canale fisic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TDM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Synchronous Time-Division Multiplexing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tempo di trasmissione viene diviso in intervalli di uguale dur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gni sorgente a turno ha la possibilità di inviare i propri dati sul can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FD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Frequency-Division Multiplexing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 ogni flusso di dati viene assegnato un diverso spettro di frequen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e diverse trasmissioni possono condividere il canale fisico nello stesso temp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9080" y="304920"/>
            <a:ext cx="72356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rezione della trasmissio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64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Simplex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solo una dire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(full)-Duplex: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entrambe le direzioni contemporaneam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Half-Duplex: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in entramb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e direzioni, ma non i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ontemporan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659640" y="1987560"/>
            <a:ext cx="1838160" cy="6494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804000" y="3068640"/>
            <a:ext cx="1838520" cy="649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804000" y="3618000"/>
            <a:ext cx="1814400" cy="601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877080" y="4724280"/>
            <a:ext cx="1838160" cy="649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6877080" y="5589720"/>
            <a:ext cx="181440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Trasmissione seriale/parallel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72960" y="1699920"/>
            <a:ext cx="8591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Trasmissione di un byt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6699"/>
                </a:solidFill>
                <a:latin typeface="Verdana"/>
              </a:rPr>
              <a:t>Seriale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: se il canale di comunicazione e’ fatto di un solo filo, il byte è trasmesso un bit per vol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6699"/>
                </a:solidFill>
                <a:latin typeface="Verdana"/>
              </a:rPr>
              <a:t>Parallela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: se il canale di comunicazione ha 8 fili, possiamo trasmettere gli 8 bit in contemporan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a trasmissione parallela e’ piu’ veloce, ma piu’ costosa da implement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viene usata di solito solo per collegamenti punto a punto e molto corti (es.: computer - stampant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a trasmissione seriale e’ quella normalmente usata nelle reti, locali e non loca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9072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asmissione sincrona/asincron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560" y="1752120"/>
            <a:ext cx="91090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Trasmettitore e ricevitore debbono cooperar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I dati vengono tipicamente trasmessi un bit per volta lungo il canale (trasmissione seria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La temporizzazione di questi bit deve essere la stessa tra trasmettitore e ricevitor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336699"/>
                </a:solidFill>
                <a:latin typeface="Verdana"/>
              </a:rPr>
              <a:t>Trasmissione sincrona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Trasmettitore e ricevitore devono essere sincronizzati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Per una corretta ricezione il ricevitore deve conoscere frequenza di trasmissione e durata di un bi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L’informazione di sincronizzazione può essere contenuta nei dati mediante speciali codifich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336699"/>
                </a:solidFill>
                <a:latin typeface="Verdana"/>
              </a:rPr>
              <a:t>Trasmissione asincrona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Trasmissione di breve durata, un carattere per volta (da 5 a 8 bi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Il ricevitore deve re-sincronizzarsi all’inizio di ogni nuovo carattere (segnalato mediante un bit di star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La fine di un carattere è poi segnalata da un altro bit di controllo, il bit di stop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s’è una re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2600" y="1752480"/>
            <a:ext cx="7597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nto di vista logic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stema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distribui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di dati, risorse di elaborazione ed uten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nto di vista fisic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ieme di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hardwa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collegament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e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protocoll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he permettono la comunicazione tra macchine remo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asmissione analogica/digita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8000" y="1700280"/>
            <a:ext cx="9036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lle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reti local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la comunicazione tra due computer passa di solito su cavi dedicati, installati esplicitamente per la rete, e adatti per la trasmissione digitale delle informazio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plificando un po’, su questi cavi si ha una variazione del livello di tensione fra due valori, che corrisponde alla trasmissione di bit di valore 0 oppure 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 le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comunicazioni su lunga distanz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 cerca di sfruttare le reti di comunicazione esistenti, come ad esempio la rete telefon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rete telefonica e’ però fatta per comunicare la voce, cioè un segnale analogico che varia in maniera continua in una banda di frequen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no necessari appositi dispositivi per poter usare la rete telefonica come mezzo di comunicazione tra computer: i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96720" y="1773360"/>
            <a:ext cx="7773840" cy="1068840"/>
            <a:chOff x="396720" y="1773360"/>
            <a:chExt cx="7773840" cy="1068840"/>
          </a:xfrm>
        </p:grpSpPr>
        <p:sp>
          <p:nvSpPr>
            <p:cNvPr id="278" name=""/>
            <p:cNvSpPr/>
            <p:nvPr/>
          </p:nvSpPr>
          <p:spPr>
            <a:xfrm>
              <a:off x="396720" y="2048040"/>
              <a:ext cx="2806920" cy="581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14520" y="2048040"/>
              <a:ext cx="2156040" cy="581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2920" y="1773360"/>
              <a:ext cx="178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Arial"/>
                </a:rPr>
                <a:t>Segnal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Arial"/>
                </a:rPr>
                <a:t>digit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29200" y="2335320"/>
              <a:ext cx="28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47760" y="5052960"/>
            <a:ext cx="7772040" cy="1068840"/>
            <a:chOff x="347760" y="5052960"/>
            <a:chExt cx="7772040" cy="1068840"/>
          </a:xfrm>
        </p:grpSpPr>
        <p:sp>
          <p:nvSpPr>
            <p:cNvPr id="283" name=""/>
            <p:cNvSpPr/>
            <p:nvPr/>
          </p:nvSpPr>
          <p:spPr>
            <a:xfrm>
              <a:off x="5965200" y="5284800"/>
              <a:ext cx="2154600" cy="581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7760" y="5284800"/>
              <a:ext cx="2805480" cy="581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58960" y="5052960"/>
              <a:ext cx="178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Arial"/>
                </a:rPr>
                <a:t>Segnal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Arial"/>
                </a:rPr>
                <a:t>digit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86720" y="5614920"/>
              <a:ext cx="28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551640" y="299736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g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na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57960" y="2646360"/>
            <a:ext cx="0" cy="261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mod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877080" y="4149720"/>
            <a:ext cx="1936800" cy="13446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804000" y="907920"/>
            <a:ext cx="1936800" cy="1344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324000" y="2492280"/>
            <a:ext cx="1698480" cy="1476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1793880" y="3933720"/>
            <a:ext cx="16984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Il mod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nformazione </a:t>
            </a:r>
            <a:r>
              <a:rPr b="1" lang="it-IT" sz="2600" spc="-1" strike="noStrike">
                <a:solidFill>
                  <a:srgbClr val="cc0000"/>
                </a:solidFill>
                <a:latin typeface="Verdana"/>
              </a:rPr>
              <a:t>digital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sequenza di bi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egnale </a:t>
            </a:r>
            <a:r>
              <a:rPr b="1" lang="it-IT" sz="2600" spc="-1" strike="noStrike">
                <a:solidFill>
                  <a:srgbClr val="cc0000"/>
                </a:solidFill>
                <a:latin typeface="Verdana"/>
              </a:rPr>
              <a:t>analogico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continu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l modem (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Modulatore-Demodulator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) trasforma bit in segnali e vicever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mod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560" y="1717200"/>
            <a:ext cx="878508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I modem attuali  hanno velocità di trasmissione di 14.400, 28.800, 38.400, 56.600 bit/se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Se due computer comunicano tramite modem, la velocità di comunicazione è sempre quella del modem più len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Il modem è usato soprattutto per le comunicazioni privat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 esempio, un utente che si collega ad internet tramite il suo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Ormai obsoleti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280" y="198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ADSL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Asymmetric Digital Subscriber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9280" y="1803240"/>
            <a:ext cx="8964720" cy="42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Modalità di accesso alla normale linea telefonica che assume la condizione di “linea digitale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trasmissione è asimmetrica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l download è molto maggiore dell’uplo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28Kbps/640Kbps ma può arrivare a 1Mbps/20Mbps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 modem sono in realtà dei processori di segnali digitali o adattat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anale di comunicazione: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inea dedicata/commut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353440" cy="50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linea dedicat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: la comunicazione avviene lungo un canale (linea fisica o “parte” di essa) dedicato esclusivamente ad es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due PC connessi da un cav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 comunica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linea commutat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: il canale viene “costruito” per ogni nuova sessione di  comunicazione, collegando singoli tratti di linee dedic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municazione tra due computer in Interne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ltri computer fanno da tramite tra i due ch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vono comunicare, ritrasmettendo i loro messagg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764400" y="2565360"/>
            <a:ext cx="2128680" cy="1238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7267680" y="4581360"/>
            <a:ext cx="16095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Il canale di comunicazione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inea dedicata/commutat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243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 le linee commutate si riducono i c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modalità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99"/>
                </a:solidFill>
                <a:latin typeface="Verdana"/>
              </a:rPr>
              <a:t>commutazione di circuito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99"/>
                </a:solidFill>
                <a:latin typeface="Verdana"/>
              </a:rPr>
              <a:t>commutazione di pacchet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mmutazione di circuit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rete telefon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77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telefoni di un distretto telefonico fanno capo ad una centrale di smistamento, che comunica con le centrali degli altri distrett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do telefoniamo, la chiamata viene fatta passare attraverso una o più centrali, fino a raggiungere il numero chiama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unicando fra loro, le centrali costruiscono una connessione diretta fra i due telefoni, che dura tutto (e solo) il tempo della telefona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mmutazione di circuito: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a rete telefonic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Quando due telefoni comunicano, la linea e’ occupata: nessuno puo’ chiamare quei telefon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he succede se usiamo una comunicazione a commutazione di circuito su interne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ISASTRO: qualsiasi servizio offerto sarebbe disponibile ad un solo utente per vol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Ad esempio, chi riesce a connettersi ad un sito web lo puo’ usare in esclusiva per tutto il tempo che vuole !!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mmutazione di pacchet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messaggio e’ diviso in tanti pacchetti numerati di dimensione fiss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pacchetto contiene l’indirizzo del computer destinatario e del mitt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pacchetto e’ trasmesso separatam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a volta inviato, il mittente se ne disinteress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pacchetto fa (virtualmente) una strada diversa per arrivare al destina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I servizi di una re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utente di un calcolatore in rete può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Fruire di risorse informatiche condivi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stampanti, dischi, calcolatori più potenti, ..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cambiare dati e messaggi con utenti di altri calcolatori connessi in re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documenti, e-mail, newsgroups, mailing-list, web, ..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Eseguire applicazioni di uso individuale o di grup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mmutazione di pacchet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pacchetti non arrivano necessariamente nello stesso ordine con cui sono stati invia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l destinatario aspetta di aver ricevuto tutti i pacchetti per ricomporli e ricostruire il messagg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pacchetto occupa il mezzo di trasmissione e la scheda di rete per un tempo molto bre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 ha un effetto di parallelismo: ogni computer può essere coinvolto contemporaneamente in più comunicazio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826920" y="1898640"/>
            <a:ext cx="7645320" cy="3692880"/>
            <a:chOff x="826920" y="1898640"/>
            <a:chExt cx="7645320" cy="3692880"/>
          </a:xfrm>
        </p:grpSpPr>
        <p:sp>
          <p:nvSpPr>
            <p:cNvPr id="315" name=""/>
            <p:cNvSpPr/>
            <p:nvPr/>
          </p:nvSpPr>
          <p:spPr>
            <a:xfrm>
              <a:off x="1677960" y="2951280"/>
              <a:ext cx="187956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4078080" y="2224080"/>
              <a:ext cx="1754280" cy="9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78080" y="3851280"/>
              <a:ext cx="1711440" cy="11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189480" y="3516480"/>
              <a:ext cx="1855800" cy="136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14840" y="2324160"/>
              <a:ext cx="1328760" cy="80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03360" y="3149640"/>
              <a:ext cx="1504800" cy="170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3680" y="5130720"/>
              <a:ext cx="1905120" cy="12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26920" y="239868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1440" y="293688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09880" y="480528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18240" y="501012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280" y="293688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67280" y="189864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53920" y="4278240"/>
              <a:ext cx="55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27280" y="412920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97760" y="202716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43360" y="190332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12760" y="235764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182760" y="3851280"/>
              <a:ext cx="351000" cy="82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6920" y="239868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89320" y="382896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96040" y="435600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04880" y="2749680"/>
              <a:ext cx="19051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078080" y="2048040"/>
              <a:ext cx="171144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64240" y="2198880"/>
              <a:ext cx="1379520" cy="7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30360" y="3516480"/>
              <a:ext cx="1201680" cy="14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384360" y="3827160"/>
              <a:ext cx="300240" cy="82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78080" y="3516480"/>
              <a:ext cx="171144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541920" y="3827160"/>
              <a:ext cx="165420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mmutazione di pacchet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1008000" cy="9129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2556000" y="4941720"/>
            <a:ext cx="1008000" cy="9129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5435640" y="5157720"/>
            <a:ext cx="1008000" cy="9129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3635280" y="2852640"/>
            <a:ext cx="1008000" cy="912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7956720" y="2924280"/>
            <a:ext cx="1008000" cy="9126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"/>
          <a:stretch/>
        </p:blipFill>
        <p:spPr>
          <a:xfrm>
            <a:off x="5796000" y="1628640"/>
            <a:ext cx="1008000" cy="9129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2340000" y="2349360"/>
            <a:ext cx="647640" cy="4431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1116000" y="4076640"/>
            <a:ext cx="647640" cy="4428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9"/>
          <a:stretch/>
        </p:blipFill>
        <p:spPr>
          <a:xfrm>
            <a:off x="3348000" y="4581360"/>
            <a:ext cx="647640" cy="4431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0"/>
          <a:stretch/>
        </p:blipFill>
        <p:spPr>
          <a:xfrm>
            <a:off x="5435640" y="3933720"/>
            <a:ext cx="647640" cy="4431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1"/>
          <a:stretch/>
        </p:blipFill>
        <p:spPr>
          <a:xfrm>
            <a:off x="4211640" y="2060640"/>
            <a:ext cx="647640" cy="4428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2"/>
          <a:stretch/>
        </p:blipFill>
        <p:spPr>
          <a:xfrm>
            <a:off x="7524720" y="2133720"/>
            <a:ext cx="647640" cy="4428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3"/>
          <a:stretch/>
        </p:blipFill>
        <p:spPr>
          <a:xfrm>
            <a:off x="7596360" y="4437000"/>
            <a:ext cx="647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mmutazione di pacchetto: instradamento (routing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e far arrivare i pacchetti a destinazion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nodo della rete mantiene una tabella che indica a quale/quali vicini ritrasmettere un pacchetto non destinato a lui, in base all’indirizzo di destinazione del pacchet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scelta del nodo a cui inoltrare il pacchetto dipende anche da situazioni temporanee di carico della rete, guasti, ec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inea dedicata/commutata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un esemp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77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Nel collegamento ad Internet col telefon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al PC al provider è in corso una comunicazione a commutazione di circui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la linea e’ occupata, perchè si sta effettuando una chiamata telefonic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al provider verso qualsiasi punto di Internet al quale decidete di collegarvi, la comunicazione è a commutazione di pacchet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erché una re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divisione di risor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iduzione cost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ffidabilità e disponibil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unicazione fra uten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ambio di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aborazione a distanz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erché una re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1628640"/>
            <a:ext cx="8820000" cy="4464360"/>
            <a:chOff x="0" y="1628640"/>
            <a:chExt cx="8820000" cy="4464360"/>
          </a:xfrm>
        </p:grpSpPr>
        <p:grpSp>
          <p:nvGrpSpPr>
            <p:cNvPr id="100" name=""/>
            <p:cNvGrpSpPr/>
            <p:nvPr/>
          </p:nvGrpSpPr>
          <p:grpSpPr>
            <a:xfrm>
              <a:off x="250920" y="1752480"/>
              <a:ext cx="8569080" cy="4340520"/>
              <a:chOff x="250920" y="1752480"/>
              <a:chExt cx="8569080" cy="434052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566640" y="1752480"/>
                <a:ext cx="8001000" cy="4267440"/>
                <a:chOff x="566640" y="1752480"/>
                <a:chExt cx="8001000" cy="4267440"/>
              </a:xfrm>
            </p:grpSpPr>
            <p:pic>
              <p:nvPicPr>
                <p:cNvPr id="10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66640" y="1752480"/>
                  <a:ext cx="8001000" cy="426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 txBox="1"/>
                <p:nvPr/>
              </p:nvSpPr>
              <p:spPr>
                <a:xfrm>
                  <a:off x="566640" y="1752480"/>
                  <a:ext cx="8001000" cy="42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rmAutofit/>
                </a:bodyPr>
                <a:p>
                  <a:pPr lvl="1" marL="907920" indent="-436320">
                    <a:spcBef>
                      <a:spcPts val="751"/>
                    </a:spcBef>
                    <a:buClr>
                      <a:srgbClr val="cc0000"/>
                    </a:buClr>
                    <a:buSzPct val="6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395280" y="2421000"/>
                <a:ext cx="360360" cy="352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88360" y="2276640"/>
                <a:ext cx="431640" cy="38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0920" y="5516640"/>
                <a:ext cx="8569080" cy="57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0" y="1628640"/>
              <a:ext cx="8820000" cy="100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arametri utili per definire 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aratteristiche di una re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Tecnologia trasmiss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cala dimensiona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Topolo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la tecnologia di comunicazi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360" y="168120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Reti broadcast (multipunt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co canale di trasmissione condiviso da tutti i calcolatori della re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Ogni calcolatore deve essere associato ad un identificatore univoco (indirizzo di rete), associato ad un dispositivo fisico utilizzato per connettersi   alla re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 messaggio inviato sulla rete raggiunge tutti i calcolatori della rete, ma solo il calcolatore il cui indirizzo corrisponde a quello presente nel messaggio, lo tratterrà per eleborarl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1-22T19:12:27Z</dcterms:modified>
  <cp:revision>151</cp:revision>
  <dc:subject/>
  <dc:title>Diapositiva 1</dc:title>
</cp:coreProperties>
</file>